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91E4-0273-4DF7-AA4B-2AAC60FC0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from http://moat.nlan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ows from Microsoft Office clip a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9921-78CF-4275-89D5-93408A701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 openings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51F3-F8A9-4EEA-9167-EF88EB523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ge links to http://www.esljobsworl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from Microsoft Office clip 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EF69-DC54-4F75-BF0A-190360E83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132-2E1A-428E-87DD-05985D23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CA1-AC07-4260-84FF-6B3DF836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33B-0D94-4055-A08E-7E299F1B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ECF-B267-486B-ADF8-91B1F4FF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4E4-5B1E-443B-8D97-67568324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BC1-FB79-46E6-BB42-F74916DB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006-2C11-40D8-BAF5-9E35AF38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D26-0104-4908-82BE-0ECBC076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500-B587-4327-A7EA-02FE1FFC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93F-9B6E-444A-8A78-35E2EF7C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128-FE8E-440A-BAA4-4EA6FDD8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FF5-EC3E-4817-B2D7-E258CCAB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1D0F-DAF3-49B8-B21B-38DCD89B1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724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ere do I want to teach Englis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4397990000[1]"/>
          <p:cNvPicPr/>
          <p:nvPr/>
        </p:nvPicPr>
        <p:blipFill>
          <a:blip r:embed="rId2"/>
          <a:stretch/>
        </p:blipFill>
        <p:spPr>
          <a:xfrm rot="3525600">
            <a:off x="1447920" y="190476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j04397990000[1]"/>
          <p:cNvPicPr/>
          <p:nvPr/>
        </p:nvPicPr>
        <p:blipFill>
          <a:blip r:embed="rId3"/>
          <a:stretch/>
        </p:blipFill>
        <p:spPr>
          <a:xfrm>
            <a:off x="3505320" y="3429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j04397990000[1]"/>
          <p:cNvPicPr/>
          <p:nvPr/>
        </p:nvPicPr>
        <p:blipFill>
          <a:blip r:embed="rId4"/>
          <a:stretch/>
        </p:blipFill>
        <p:spPr>
          <a:xfrm rot="6409800">
            <a:off x="5029200" y="837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176560" y="0"/>
            <a:ext cx="65865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20240" y="228600"/>
            <a:ext cx="21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bou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990720" y="838080"/>
            <a:ext cx="73152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runs this sit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es he have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xperience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teach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does he liv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2055960" y="0"/>
            <a:ext cx="69357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235440" y="228600"/>
            <a:ext cx="15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643040" y="0"/>
            <a:ext cx="7500960" cy="5464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209880" y="230040"/>
            <a:ext cx="12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28600" y="228600"/>
            <a:ext cx="8763120" cy="63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80316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much do these jobs p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43000" indent="-803160">
              <a:lnSpc>
                <a:spcPct val="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520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(1,000 yen = €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520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(250,000 yen = €195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43000" indent="-80316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job requires me to speak Japan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43000" indent="-803160">
              <a:lnSpc>
                <a:spcPct val="5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43000" indent="-80316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job requires a university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520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609480" y="304920"/>
          <a:ext cx="8153640" cy="640080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6403680"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job starts in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  a   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gust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ptember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ctober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 would teach for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  5   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days a wee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 would teach only elementary students.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False  .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minimum salary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230,000  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y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 Does the school help me to get my visa?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Yes   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   I need a university degree in philolog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False; any degree is acceptable 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  The interviews are in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c 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United St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   How much annual vacation is there?  </a:t>
                      </a:r>
                      <a:r>
                        <a:rPr b="0" lang="es-ES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  b 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-5 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-8 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 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304920" y="362520"/>
            <a:ext cx="8534160" cy="62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n I bring my family with me? 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 c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y don’t 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y offer any jobs in Tokyo? 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 No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oes this company also offer work in other count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ones? 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 Taiwan, Hong Kong, Thailand, Vietnam and Korea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o I work alone in the classroom, or with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acher? 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 With another (Japanese) teacher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hat is the web page I should go tofor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formation? 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 www.teachaway.com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52280" y="334800"/>
            <a:ext cx="8991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33240" indent="-6332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Would you like to live in another country?  Why or why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What kinds of jobs can you do in another country? What kinds can you NOT do abro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Would you feel comfortable applying for a job you found on the Inter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920" y="304920"/>
          <a:ext cx="8610480" cy="601956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udi 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vi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5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tage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excellent p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tage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exotic cul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tage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comforta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Freestyle Script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do I look for a jo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in Japa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162800" y="1832040"/>
            <a:ext cx="97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do I look for a jo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in Japa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55520" y="1832040"/>
            <a:ext cx="4999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 </a:t>
            </a: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newspap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do I look for a jo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in Japa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5520" y="1832040"/>
            <a:ext cx="4999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 </a:t>
            </a: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newspap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 </a:t>
            </a: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friend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Freestyle Scrip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TEMP\Temporary Internet Files\Content.IE5\4PJKKN3S\MCj04316420000[1].png"/>
          <p:cNvPicPr/>
          <p:nvPr/>
        </p:nvPicPr>
        <p:blipFill>
          <a:blip r:embed="rId1"/>
          <a:stretch/>
        </p:blipFill>
        <p:spPr>
          <a:xfrm>
            <a:off x="2590920" y="9144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055960" y="0"/>
            <a:ext cx="6935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35440" y="228600"/>
            <a:ext cx="157212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©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SL J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or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57200" y="441360"/>
            <a:ext cx="83818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7286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ill this cost me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oney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00000" indent="-7286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o they offer jobs in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Japan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00000" indent="-7286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o you believe this website is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honest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2055960" y="0"/>
            <a:ext cx="69357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35440" y="228600"/>
            <a:ext cx="15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22:12:59Z</dcterms:created>
  <dc:creator>Douglas McClure</dc:creator>
  <dc:description/>
  <dc:language>en-US</dc:language>
  <cp:lastModifiedBy>Douglas McClure</cp:lastModifiedBy>
  <dcterms:modified xsi:type="dcterms:W3CDTF">2010-04-15T05:01:58Z</dcterms:modified>
  <cp:revision>53</cp:revision>
  <dc:subject/>
  <dc:title>Slide 1</dc:title>
</cp:coreProperties>
</file>